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704-54FF-4A89-BA9A-0D7C558A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7DD-3888-4EB6-89DB-DB018790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4CC-0DE8-40E9-A1F4-C9332BFC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730-2364-428E-B7B9-115ACBE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AFF-96E9-422C-9B72-31789A17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FC4-ED74-498C-807C-50308CAB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6BB-6A12-4612-8F84-8807E4B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C36-B787-45C6-8283-8B8138FA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822-42C4-4D18-97C6-FFF2B8ED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24B-0C6D-4A70-94AE-D4497DC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7FF-7D1B-434A-AEAC-9FBB025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EAB-B996-40F1-8524-5BFE8F31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04E0-1565-411E-B3FD-10FD0250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art 3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lood Sp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9592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speed to which a free falling drop of blood can accelerate in air. It is dependent upon the acceleration of gravity and the friction of the air against the bl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25.1 feet/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um 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9200" y="1600200"/>
            <a:ext cx="798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shape of a blood dro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falls straight down at a 90 degree ang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ip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od droplets elongate as the angle decreases from 90 to 0 degrees; the angle can be determined by the following fo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rmula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419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degree angles are perfectly round drops with 80 degree angles taking on a more elliptical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bout 30 degrees the stain will begin to produce a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11400">
            <a:off x="6095880" y="121896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08800" y="2868480"/>
            <a:ext cx="1935000" cy="32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der and less porous the surface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 the blood drop will break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er and more porous the surface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a blood drop will break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40400" y="1690560"/>
            <a:ext cx="2684520" cy="4073760"/>
            <a:chOff x="5540400" y="1690560"/>
            <a:chExt cx="2684520" cy="4073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5540400" y="1690560"/>
              <a:ext cx="2684520" cy="40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5540400" y="1690560"/>
              <a:ext cx="2684520" cy="40737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ea of Inters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Conver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5320" y="2131560"/>
            <a:ext cx="49528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location of the blood source can be determined by drawing lines from the various blood droplets to the point where they intersect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rea of convergence is the point of origin; the spot where the “blow” occurred. It may be established at the scene with measurement of angles by use of string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9400" y="1870200"/>
            <a:ext cx="2705040" cy="425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09680" y="441972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8840" y="2233440"/>
            <a:ext cx="7745400" cy="32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, as a fluid, follows the laws of physic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93880"/>
            <a:ext cx="7239240" cy="3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Droplet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droplet will remain spherical in space until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falling from the same height, hitting the same surface at the same angle, will produce a stain with the same basic 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 Droplet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contains approximat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 cc    of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the same for all blood droplets, but is generally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 cc to _______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rectly dependent upon the surface or orifice from which it orig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area i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s Affe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hape of Blood Drop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131560"/>
            <a:ext cx="754524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lean glass or p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rough 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9840" y="1690560"/>
            <a:ext cx="798660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tance 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____________ and the →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(s) of origin of the bl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blows, shots, etc. causing the bloodshed and/or the dispersal of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_______ of the victim and/or object during blood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victim and/or object after blood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0040" y="1599840"/>
            <a:ext cx="752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stain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bloody object comes into contact with a surface and leaves a patterned blood image on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t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thrown from an object i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s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stains caused by contact between a wet blood-bearing surface and a second surface which may or may not have blood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1:24:12Z</dcterms:created>
  <dc:creator>Theresa DeLaurentis</dc:creator>
  <dc:description/>
  <dc:language>en-US</dc:language>
  <cp:lastModifiedBy>Preferred Customer</cp:lastModifiedBy>
  <dcterms:modified xsi:type="dcterms:W3CDTF">2009-02-17T10:51:01Z</dcterms:modified>
  <cp:revision>2</cp:revision>
  <dc:subject/>
  <dc:title>Part 3:  Blood Spatter</dc:title>
</cp:coreProperties>
</file>